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6489720"/>
            <a:ext cx="9360000" cy="558720"/>
          </a:xfrm>
          <a:prstGeom prst="roundRect">
            <a:avLst>
              <a:gd name="adj" fmla="val 2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250920" y="649764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592360" y="6497640"/>
            <a:ext cx="54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3376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5600" indent="-3376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0320" indent="-2998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5589720"/>
            <a:ext cx="9325080" cy="136836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9239400" cy="1989000"/>
          </a:xfrm>
          <a:prstGeom prst="roundRect">
            <a:avLst>
              <a:gd name="adj" fmla="val 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4"/>
          <p:cNvGrpSpPr/>
          <p:nvPr/>
        </p:nvGrpSpPr>
        <p:grpSpPr>
          <a:xfrm>
            <a:off x="2948040" y="333360"/>
            <a:ext cx="3278160" cy="1336680"/>
            <a:chOff x="2948040" y="333360"/>
            <a:chExt cx="3278160" cy="1336680"/>
          </a:xfrm>
        </p:grpSpPr>
        <p:sp>
          <p:nvSpPr>
            <p:cNvPr id="45" name="AutoShape 5"/>
            <p:cNvSpPr/>
            <p:nvPr/>
          </p:nvSpPr>
          <p:spPr>
            <a:xfrm>
              <a:off x="2948040" y="333360"/>
              <a:ext cx="3278160" cy="1336680"/>
            </a:xfrm>
            <a:prstGeom prst="roundRect">
              <a:avLst>
                <a:gd name="adj" fmla="val 116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3"/>
            <a:stretch/>
          </p:blipFill>
          <p:spPr>
            <a:xfrm>
              <a:off x="2948040" y="333360"/>
              <a:ext cx="327816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199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5000" indent="-4050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1440" indent="-36792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17880" indent="-33084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61400" indent="-33084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67840" indent="-29376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67840" indent="-29376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67840" indent="-29376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279520"/>
            <a:ext cx="720072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Esercitazione 4</a:t>
            </a:r>
            <a:br>
              <a:rPr sz="4000"/>
            </a:b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MySQL</a:t>
            </a:r>
            <a:endParaRPr b="1" lang="en-US" sz="36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181320"/>
            <a:ext cx="7848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7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Laboratorio di Progettazione Web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7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A 2009/20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7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hiara Rens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ISTI- CNR - c.renso@isti.cnr.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nfigurazione connessione MySQL per aula H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l server MySQL risiede sull’host squalo.cli.di.unipi.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ogin: 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vostro login uten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assword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: vostro login uten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atabase predefinito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: vostro login uten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NOTA: il database NON va creato, esiste gia’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74240"/>
            <a:ext cx="7920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mpio di connession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15236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&lt;?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 // setto i parametri della connessio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$dbhost=“squalo.cli.di.unipi.it"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$dbuser=“</a:t>
            </a: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renso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$dbpass=“</a:t>
            </a:r>
            <a:r>
              <a:rPr b="1" lang="it-IT" sz="1800" spc="-1" strike="noStrike">
                <a:solidFill>
                  <a:srgbClr val="99ccff"/>
                </a:solidFill>
                <a:latin typeface="Arial"/>
              </a:rPr>
              <a:t>renso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"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$dbname=“</a:t>
            </a:r>
            <a:r>
              <a:rPr b="1" lang="it-IT" sz="1800" spc="-1" strike="noStrike">
                <a:solidFill>
                  <a:srgbClr val="99ccff"/>
                </a:solidFill>
                <a:latin typeface="Arial"/>
              </a:rPr>
              <a:t>renso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”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//connessione al 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$conn</a:t>
            </a: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=</a:t>
            </a: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ysql_connect($dbhost,$dbuser,$dbpass) or die("impossibile accedere"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mysql_select_db($dbname,$con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81360" y="2428920"/>
            <a:ext cx="546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serire qui il vostro login di accesso all’aula H!!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dica sia l’utente del DB che la password e il nome del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 flipH="1" flipV="1">
            <a:off x="2705040" y="2485800"/>
            <a:ext cx="914400" cy="322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2781000" y="2924280"/>
            <a:ext cx="863640" cy="115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2884320" y="3065400"/>
            <a:ext cx="811440" cy="566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-14760"/>
            <a:ext cx="79200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4.1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782640"/>
            <a:ext cx="819144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reare una pagina PHP  ch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tabilisca la connessione con il server MySQL e il </a:t>
            </a: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vostro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atabase.  Verificate il funzionamento con una echo di prov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reate la tabella </a:t>
            </a:r>
            <a:r>
              <a:rPr b="1" lang="it-IT" sz="2000" spc="-1" strike="noStrike">
                <a:solidFill>
                  <a:srgbClr val="3399ff"/>
                </a:solidFill>
                <a:latin typeface="Arial"/>
              </a:rPr>
              <a:t>primatabella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gia’ definita nei lucidi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serire almeno 4 o 5 record (inser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isualizzare tutti i record (query di selezion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rovare la modifica e  la cancellazione di un rec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isualizzare nuovamente tutti i record e verificarne i cambiamen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isualizzare il numero di record della tabell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8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isualizzare solo i primi due record (uso del LIMI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01600"/>
            <a:ext cx="7920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4.2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216080"/>
            <a:ext cx="79200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reare una form HTML con i campi di input NOME, COGNOME, TELEFON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reare una pagina PHP che riceva i parametri della form e li inserisca  i dati ricevuti nella tabella “primatabella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reare una nuova pagina PHP che visualizzi una form HTML e mostri in una box di selezione i cognomi dei nominativi presenti in “primatabella”. Al submit della form attivare una pagina PHP che mostri i dati dell’utente selezionato (nome, cognome, telefono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ara Renso</cp:lastModifiedBy>
  <dcterms:modified xsi:type="dcterms:W3CDTF">2010-05-11T15:28:54Z</dcterms:modified>
  <cp:revision>205</cp:revision>
  <dc:subject/>
  <dc:title>Laboratorio di Progettazione Web</dc:title>
</cp:coreProperties>
</file>